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AB9C-34A7-44C9-9B78-93939015F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3DF5-DCD6-4E88-A390-4FBA8A40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F987-226B-4F70-881A-1A6FB1BF5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61BE-C642-4E06-96FB-A0B27C77E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A847-36F1-440F-AFCF-4051B654B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A8E9-97F3-47F8-ACF3-53CF1BA26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B3E1-7235-44CE-9E0D-962D6FB26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A10B-971B-460C-9429-25D58049B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594F-E674-444E-8BED-681E766D1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C0B9-69B9-4691-B50B-2A1D24A3F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40F1-273D-4859-BCDD-D612D00C8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9897-EA16-4967-AF93-007967831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5FD1-B68B-4F75-B787-62EC762BD5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34E3-21F7-4466-96A6-538D0F66EA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96D-FAA1-4338-85C8-477676DFBE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90DE-70AE-4E6C-9C80-9EAA7CE87C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9000" y="259092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174A-42AC-4409-906E-FE43679891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76720" y="213372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t. Mary’s SS (PVNCCDS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29000" y="259092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C74-D1B4-460A-9699-F68FE5F510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455C-223B-4346-BEA7-4045B462DF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feedback to be used when responding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E3C-79E6-43FD-A462-1A32198258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5AD-6F04-476B-833F-7D21FD4AF5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967-D1B6-4FAC-A2DA-680DEF0FE4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12F2-CA7A-413D-A189-819BD5F461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1A6C-A6EA-4934-9864-5A73308FDC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B6BE-49D2-4ED9-AEAE-00EF00E614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42C-BDAE-4296-8648-2F99FAE491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D57-1A62-4335-B48A-08B344CDE0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2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98A-C10A-43A6-ABEF-33C6101DBD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30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7ABD-EC10-440B-99D1-9BCBBC873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6T21:37:06Z</dcterms:modified>
  <cp:revision>28</cp:revision>
  <dc:subject/>
  <dc:title>&lt;Title&gt;</dc:title>
</cp:coreProperties>
</file>